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bmp" ContentType="image/bmp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0" spc="-1" strike="noStrike">
                <a:solidFill>
                  <a:srgbClr val="808000"/>
                </a:solidFill>
                <a:latin typeface="Arial CE"/>
                <a:ea typeface="Arial CE"/>
              </a:rPr>
              <a:t>SMS gatew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CE"/>
                <a:ea typeface="Arial CE"/>
              </a:rPr>
              <a:t>PREGLED DOSTUPNIH SOFT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SMSGateWay - </a:t>
            </a:r>
            <a:r>
              <a:rPr b="0" lang="en-US" sz="32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Connect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je gateway za slanje e-mail poruka preko SMS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stavi pod kojima radi: DOS, Windows 3.x, Windows 95, NT Work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pušta slanje tekstualnih SMS poruka sa bilo kojeg SMTP e-mail sustava na bilo koji GSM/PCS telefon s omoguæenim SMS-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MTP e-mail sustavi koje podržava: Novell GroupWise, Microsoft exchange, cc:Mail i Lotus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049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oftver dopušta skupu poruka prolaz preko e-maila, weba ili sliènih interface aplikacija, ovisno o individualnim zahtje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MSGateWay predviða maksimalni prolaz oko 720 SMS poruka po gatewayu po satu. Za veæe zahtjeve linearno raste broj gatewaya (npr. za 4 gatewaya predviðeno je oko 2880 SMS poruka po sat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htjevi na hard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mpatabilan IBM PC, 386 ili ja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režna kartica (Ethernet ili Token 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a ili više Nokia podatkovna ka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an ili više pšovezanih Nokia mobilnih telefona sa SIM-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3300"/>
                </a:solidFill>
                <a:latin typeface="Times New Roman CE"/>
                <a:ea typeface="Times New Roman CE"/>
              </a:rPr>
              <a:t>SMSAlert - </a:t>
            </a:r>
            <a:r>
              <a:rPr b="0" lang="en-US" sz="3200" spc="-1" strike="noStrike">
                <a:solidFill>
                  <a:srgbClr val="ff3300"/>
                </a:solidFill>
                <a:latin typeface="Times New Roman CE"/>
                <a:ea typeface="Times New Roman CE"/>
              </a:rPr>
              <a:t>Connect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523880"/>
            <a:ext cx="7772400" cy="47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dopušta slanje poruka preko dial-up -a na bilo koji GSM telefon ili pager s omoguæenim SMS-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DOS, Windows 3.x, Windows 95, NT Work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za slanje veæeg broja poruka koristiti SMS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kompatabilan IBM PC, 386 ili jaèi, kompatabilan m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licensiran košta oko 300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3300"/>
                </a:solidFill>
                <a:latin typeface="Times New Roman CE"/>
                <a:ea typeface="Times New Roman CE"/>
              </a:rPr>
              <a:t>AIRSOURCE E-MAIL GATE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92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kada e-mail poruka stigne, </a:t>
            </a: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AIRSOURCE E-MAIL GATEWAY je analizira, i usporeðuje adresu na koju se želi poslati poruka sa svojom listom ovlaštenih primaoca. Zatim šalje poru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softver se može konfigurirati tako da inteligentno ruta poru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podrža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Microsoft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Microsoft Mail (MA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cc:Mail (V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Lotus Notes (V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Internet Mail (POP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53352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zahtje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Windows NT, Windows  95, Windows  for Workgroups ili Windows  3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IBM ili kompatabilna 486 (preporuèuje se 8MB R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10MB slobodnog mjesta na hard di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Hayes kompatabilan 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ureðaj za primanje alfanumerièkih zna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kompatabilna e-mail plat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3300"/>
                </a:solidFill>
                <a:latin typeface="Times New Roman CE"/>
                <a:ea typeface="Times New Roman CE"/>
              </a:rPr>
              <a:t>Auto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sofisticirani softver koji omoguæuje  rad sa tekstualnim porukama; za </a:t>
            </a:r>
            <a:r>
              <a:rPr b="0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Window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u svojoj najjednostavnijoj konfiguraciji dozvoljava slanje tekstualnih poruka na pagere i mobilne telefone sa PC-a koristeæi m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softver nije ogranièen na neki poseban sustav- važno je samo da sustav podržava SM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zahtjevi: Windows 3.1, 95, 98 I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komunikacija je moguæa u dva sm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protokoli: TAP (direktni ili dial-up), MG-4, DDE ili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preporuèena opr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najmanje pentium 166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floppy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dva RS232 ul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serijski ili paralelni port za printer (isti može biti lokalni ili mrež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800x600 color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Windows 3.1, 95, 98 ili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barem jedno od slijedeæeg:Hayes kompatabilni modem, X23 pad, direktna veza sa ON-site sustavom, GSM telefon koji podržava ETSI ‘AT’ komande, Premi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5MB slobodnog prostora na disku, mrežna ka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600" spc="-1" strike="noStrike">
                <a:solidFill>
                  <a:srgbClr val="ff3300"/>
                </a:solidFill>
                <a:latin typeface="Times New Roman CE"/>
                <a:ea typeface="Times New Roman CE"/>
              </a:rPr>
              <a:t>KRAJ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hort Message Service (SMS) je sustav slanja poruka izgraðen na specifikacijama globalnog sustava za mobilnu komunikaciju (GS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vi provideri imaju instalirane SMS softvere o kojima ovisi broj i kvaliteta (brzina prijenosa poruka,…) uslu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Uv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ateway je softver koji omoguæuje primanje i slanje poruka razlièitih protoko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MS gateway omoguæava korisniku korištenje usluga SMS-a (samo tekstualne poruke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dardni gateway omoguæav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èitanje tekstualnih poruka na mobilnom telefonu sa web-a ili e-mai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lanje e-mail i fax poruka sa mobilnog telefo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lanje tekstualnh poruka na drugi mobilni telefon sa web-a ili e-mail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stoje dva naèina slanja poruke</a:t>
            </a: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DIREKTNI: slanje poruke provideru (TCP/IP), a on šalje poruku na željeni mobilni telefon (brži i efikasniji - kod nas se ne koristi) (SM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IREKTNI: slanje poruke direktno preko GSM modema (sporij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560" y="2200320"/>
            <a:ext cx="9015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SMS Gateway-</a:t>
            </a:r>
            <a:r>
              <a:rPr b="0" lang="en-US" sz="24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Nordic</a:t>
            </a:r>
            <a:r>
              <a:rPr b="0" lang="en-US" sz="32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 </a:t>
            </a:r>
            <a:r>
              <a:rPr b="0" lang="en-US" sz="2400" spc="-1" strike="noStrike">
                <a:solidFill>
                  <a:srgbClr val="808000"/>
                </a:solidFill>
                <a:latin typeface="Times New Roman CE"/>
                <a:ea typeface="Times New Roman CE"/>
              </a:rPr>
              <a:t>messaging Technologies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švedski softver za slanje poruka za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guænost slanja tekstualnih poruka na GSM mobilne telefone i tekstualne pag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uænost: integracija sa HTTP serverom za slanje poruka i administriranje redova sa web pretraživaèa kao što su Internet Explorer ili Netscape Nav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7632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guæa podruèja primje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èitanje e-maila sa GSM telef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gracija sa mrežnim menagmentom kao što je HP Open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eb integracija- slanje poruka preko web interface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ržava razlièite protoko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RMES/UCP ( CMG SMS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P (Aldiscon SMS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IMD ( Nokia SMS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azlièiti naèini pristu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ial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latforme koje podrž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IX 3.x &amp; 4.x (RS/6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igital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P-UX 10.x &amp; 11.x (serija 9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CO OpenServ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CO Unix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n Solaris 2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31840" y="322200"/>
            <a:ext cx="7021440" cy="14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irect 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CP/IP i telnet za vezu i komunikaciju sa switch-erom za poru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an</dc:creator>
  <dc:description/>
  <dc:language>en-US</dc:language>
  <cp:lastModifiedBy>Ivan</cp:lastModifiedBy>
  <cp:revision>0</cp:revision>
  <dc:subject/>
  <dc:title>SMS Gateway</dc:title>
</cp:coreProperties>
</file>